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25A50-2E14-4F58-9D29-A8F2519F4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05DFE-522E-4682-9549-18C717C59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7E70D-9447-4363-9734-12F850C29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69964-BF6D-4861-863B-22F06ED4B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EE58-0DB4-467F-907E-4B5DAE94AD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E5555F-A471-4802-9304-04030BFE2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8CA36-F00C-4EAA-A043-787E31C38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9358-2626-4595-9155-A649E7E963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381B9-BA08-48CA-A4DE-367D6388E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078F0-6A26-4C94-A250-C63759FA9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4A97-09F3-4171-9A8F-A6F8A8347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4DD2-B63A-4328-A929-4B2787D60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87865D-DD2B-42C9-A6B9-95AB418B0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D196B-BA41-4079-B884-D98619213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8BA98-3343-4E7D-AF64-B1C08783A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C5CE9-06CE-40AD-BF1D-8159C8342F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9393B3-FBC4-4110-9D46-5BFC94AA5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237B7-D0D5-4652-AB32-77D06A445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CF870-E402-4F43-83A7-22473A4CF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BC6E6-7BC8-457C-B081-9A229844B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AA34D-0C39-4819-891B-00DED9753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101E-B502-45DD-B9E1-644F69502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C28F-C916-4976-96D8-0C98DD85A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2A133-3AC6-44D1-83F5-C263F2B39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A3910-D736-4F8A-93AE-21F7D6B1BAD1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0C825-E6EC-4A35-B778-320708F62265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-360" y="1052280"/>
            <a:ext cx="9217080" cy="15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Перспективы определения правового статуса вейпинга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в Российском законодательстве.</a:t>
            </a:r>
            <a:br>
              <a:rPr sz="4600"/>
            </a:br>
            <a:r>
              <a:rPr b="0" lang="ru-RU" sz="4600" spc="-1" strike="noStrike">
                <a:solidFill>
                  <a:srgbClr val="ffffff"/>
                </a:solidFill>
                <a:latin typeface="Arial"/>
              </a:rPr>
              <a:t>Анализ внесенных до февраля 2017 законопроектов.</a:t>
            </a:r>
            <a:endParaRPr b="0" lang="en-US" sz="46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2743200" y="4076640"/>
            <a:ext cx="6400800" cy="278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Работу выполнила ученица 11 «И» класса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ГБОУ СОШ №497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ЦДЮТТ Киров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АНО НОО «Земля и Вселенна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Валиахметова Софья Михайл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Научные руководители: Иванущак Алла Пет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едагог ДО ЦДЮТТ Кировского райо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ирьянко Дарья Владимиро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еподаватель гуманитарного сектора АНО НОО «Земля и Вселенная»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Кудрявцева Евгения Евгеньевна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468360" y="260280"/>
            <a:ext cx="5286240" cy="54579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995640" y="3068640"/>
            <a:ext cx="4988160" cy="358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Итог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126828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Во избежание конфликтов или спорных моментов, основывающихся на тех самых неопределенностях, необходимо принять меры, способные регулировать  любые вопросы, касающиеся всех сторон производства электронных сигарет и непосредственно процесса парения. А также дать четкое определение понятию электронной сигареты (вейпа) для исключения двоякого толкова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116000" y="1557360"/>
            <a:ext cx="7201080" cy="479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95280" y="-171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Все точки над </a:t>
            </a: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V</a:t>
            </a:r>
            <a:r>
              <a:rPr b="0" lang="ru-RU" sz="44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662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       — 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Что такое вейп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Если буквально, это сокращение от слова vapour, “пар”. Сейчас под вейпингом понимается целая субкультура, связанная с электронными парогенераторами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— Когда это началось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В 2004 году в Гонконге, когда была изобретена первая электронная сигарета. Но 10 лет спустя вейпинг стал активно набирать обороты — результаты вы и сами видите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— Чем отличается от курения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Проще ответить, чем они похожи: тем, что и вейперы, и курильщики выпускают клубы, только у первых пар, у вторых — дым. Принцип работы абсолютно разный: в вапорайзерах жидкость, состоящая из глицерина (трёхатомный спирт), пропиленгликоля (двухатомный спирт), ароматизаторов и никотина нагревается до испарения в атомайзере. Отсутствие табачной основы (и того, что получается при его горении) и других составляющих сигарет делает вейпинг менее опасным.</a:t>
            </a:r>
            <a:br>
              <a:rPr sz="1600"/>
            </a:br>
            <a:br>
              <a:rPr sz="1600"/>
            </a:b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— А от кальяна?</a:t>
            </a: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Сравнение с кальяном уже поинтереснее. От кальяна отличается принципом работы. Дым кальяна — это смесь тлеющего табака (чего в теории быть не должно, но на практике встречается везде) + пары глицерина, патоки и ароматизаторов, охлажденный шахтой и фильтрованный через воду . Это вреднее, чем пар, но безопаснее, чем табак.</a:t>
            </a:r>
            <a:r>
              <a:rPr b="0" lang="ru-RU" sz="9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Цель исследова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79280" y="1125000"/>
            <a:ext cx="86868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Определить перспективные направления развития вейпинга в РФ на основании законопроектов внесённых на рассмотрение в ГД РФ до февраля 2017 год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Картинки по запросу вейпинг"/>
          <p:cNvPicPr/>
          <p:nvPr/>
        </p:nvPicPr>
        <p:blipFill>
          <a:blip r:embed="rId1"/>
          <a:stretch/>
        </p:blipFill>
        <p:spPr>
          <a:xfrm>
            <a:off x="1908000" y="3716280"/>
            <a:ext cx="5400720" cy="2924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066920" y="188640"/>
            <a:ext cx="4895640" cy="68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Самый известный законопроект о вейпинге — № 1058051–6 «Об особенностях оборота электронных систем доставки никотина», внесенный в Госдуму 27-го апреля 2016-го. Его авторы — сенаторы Валерий Рязанский, Игорь Чернышев и депутаты Максим Шингаркин и Сергей Катас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Законопроект № 1058131–6 «О внесении изменений в отдельные законодательные акты Российской Федерации» логически вытекает из предыдущего. Если первый вводит в нормативно-правовое поле абсолютно новое понятие ЭСДН, то данный как бы «подготавливает» к этому другие федеральные законы. Авторы — сенаторы Валерий Рязанский, Игорь Чернышев и депутаты Максим Шингаркин и Сергей Катасон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Картинки по запросу Борис Чернышев депутат"/>
          <p:cNvPicPr/>
          <p:nvPr/>
        </p:nvPicPr>
        <p:blipFill>
          <a:blip r:embed="rId1"/>
          <a:stretch/>
        </p:blipFill>
        <p:spPr>
          <a:xfrm>
            <a:off x="324000" y="549360"/>
            <a:ext cx="3673440" cy="5473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 судьи кто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87480" y="907920"/>
          <a:ext cx="9056520" cy="5729400"/>
        </p:xfrm>
        <a:graphic>
          <a:graphicData uri="http://schemas.openxmlformats.org/drawingml/2006/table">
            <a:tbl>
              <a:tblPr/>
              <a:tblGrid>
                <a:gridCol w="2154240"/>
                <a:gridCol w="1096200"/>
                <a:gridCol w="4159440"/>
                <a:gridCol w="216000"/>
                <a:gridCol w="1430640"/>
              </a:tblGrid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ФИО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озраст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бразовани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Парт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алерий Рязански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66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осковский авиационный институт имени С.Орджоникидзе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Единая Россия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9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Игорь Черныше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арнаульское высшее авиационное училище летчиков имени Главного маршала авиации К.А.Вершинина (198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Новосибирский государственный аграрный университет (юрист) (2004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еспартийны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Максим Шингаркин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48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Тульское высшее артиллерийское инженерное училище имени Тульского пролетариата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ЛДПР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93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Сергей Катасон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53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Оренбургский сельскохозяйственный институт с отличием, факультет механизации сельского хозяйства (1985)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ЛДПР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7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Борис Чернышов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25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Высшая школа экономики, факультет политологии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ffffff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7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cc"/>
                          </a:solidFill>
                          <a:latin typeface="Arial"/>
                        </a:rPr>
                        <a:t>ЛДПР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28080">
                      <a:solidFill>
                        <a:srgbClr val="000000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Где деньги, Зин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39280" y="1268280"/>
            <a:ext cx="8363160" cy="515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Как правило, табачная продукция облагается тремя видами налогов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кциз — налог на товары народного потребления, которым обычно облагаются алкогольные напитки, табачная продукция и топливо; в некоторых странах акцизом облагаются и другая продукция, например, прохладительные напитки, кофе или ча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аможенные платежи, распространяющиеся только на импортируемые товары;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лог на добавленную стоимость (НДС) — косвенный налог, которым облагаются практически все товары и услуги, производимые в стран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851280" y="0"/>
            <a:ext cx="5435640" cy="72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Я думаю, что электронные сигареты могут иметь какое-то значение, если мы говорим о том, чтобы отучить людей курить табачные изделия. Но, в отличие от рекламы производителей, мы не можем дать стопроцентную вероятность по этому вопросу, а также по проблеме вреда», - рассказала Илона Ясперс, заместитель главы Центра экологической медицин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«Вейпинг», возможно, имеет меньший вред в сравнении с обычными сигаретами. Но в то же время добавляет риски развития других заболеваний», - добавляет о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Картинки по запросу доктор хаус"/>
          <p:cNvPicPr/>
          <p:nvPr/>
        </p:nvPicPr>
        <p:blipFill>
          <a:blip r:embed="rId1"/>
          <a:srcRect l="14767" t="2362" r="18204" b="0"/>
          <a:stretch/>
        </p:blipFill>
        <p:spPr>
          <a:xfrm>
            <a:off x="0" y="981000"/>
            <a:ext cx="3822840" cy="4537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68360" y="333000"/>
            <a:ext cx="82296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«Мы стоим только на пороге осознания токсичности этих продуктов», - говорит Нил Беновитц (Neil Benowitz) из Калифорнийского университета в Сан-Франциско. «Множество тканей человека подвержено большому риску, при таком типе курения. Хотя, конечно же, большинство специалистов на данный момент выражает общее мнение, что «вейпинг» безопаснее, чем курение сигарет» - добавляет он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Картинки по запросу вейпинг медицина"/>
          <p:cNvPicPr/>
          <p:nvPr/>
        </p:nvPicPr>
        <p:blipFill>
          <a:blip r:embed="rId1"/>
          <a:srcRect l="0" t="16577" r="0" b="14287"/>
          <a:stretch/>
        </p:blipFill>
        <p:spPr>
          <a:xfrm>
            <a:off x="1619280" y="4365720"/>
            <a:ext cx="63435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68360" y="-2430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А что думаешь ТЫ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2771640" y="1268280"/>
          <a:ext cx="6372360" cy="425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1268280"/>
                    <a:ext cx="6372360" cy="425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22" name="" descr="Картинки по запросу ты записался добровольцем"/>
          <p:cNvPicPr/>
          <p:nvPr/>
        </p:nvPicPr>
        <p:blipFill>
          <a:blip r:embed="rId3"/>
          <a:stretch/>
        </p:blipFill>
        <p:spPr>
          <a:xfrm>
            <a:off x="250920" y="1484280"/>
            <a:ext cx="2622600" cy="36720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02T16:57:30Z</dcterms:created>
  <dc:creator>Сонька))</dc:creator>
  <dc:description/>
  <dc:language>en-US</dc:language>
  <cp:lastModifiedBy>Сонька))</cp:lastModifiedBy>
  <dcterms:modified xsi:type="dcterms:W3CDTF">2017-03-03T09:23:09Z</dcterms:modified>
  <cp:revision>4</cp:revision>
  <dc:subject/>
  <dc:title>Перспективы определения правового статуса вейпинга в Российском законодательстве. Анализ внесенных до февраля 2017 законопроектов.</dc:title>
</cp:coreProperties>
</file>